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1880" y="-360"/>
            <a:ext cx="78868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1880" y="-360"/>
            <a:ext cx="78868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82000" cy="89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69920" indent="-25380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764480" y="5452920"/>
            <a:ext cx="1379520" cy="14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19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98600" y="3186000"/>
            <a:ext cx="8194680" cy="166680"/>
          </a:xfrm>
          <a:prstGeom prst="rect">
            <a:avLst/>
          </a:prstGeom>
          <a:solidFill>
            <a:srgbClr val="006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6400" algn="ctr">
              <a:spcBef>
                <a:spcPts val="451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16120" algn="ctr"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71720" algn="ctr"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71720"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71720"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6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 outl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PC Preliminaries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1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I - In and Out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t up nodes of sentries and connect with directed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shortest path using Dijkstra or Bellman-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ong shortest pa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ges between split nodes: Reverse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edges: Negate weight in opposite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another shortest path using Bellman-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jkstra also possible after reweig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G – Secret Island Bas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largest inscribed circle of poly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combination of 3 points/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circle(s) touching the 3 points/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if circle fits (and is in polyg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different 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oints (eas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edges (eas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points, 1 edge (h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edges, 1 point (h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F – Dividing the Loot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simple greedy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y pick the N/(P+1) most valuable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E – Rolling Dic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st part is keeping track of 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roll one square at a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entation the same after rolling 4 times in same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A – Stifling the Mutiny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62720" cy="50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-hoc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ship must have one loyal pi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-3808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disloyal pirate every three sh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r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-3808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s many disloyal pirates as possible on last 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 for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ips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ir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n, k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        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4)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n, k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)/3)/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8480" y="2976480"/>
            <a:ext cx="6359400" cy="304920"/>
            <a:chOff x="1068480" y="2976480"/>
            <a:chExt cx="6359400" cy="304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068480" y="29764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657440" y="29764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2289240" y="29764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2943360" y="29764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5"/>
            <a:stretch/>
          </p:blipFill>
          <p:spPr>
            <a:xfrm>
              <a:off x="3613320" y="29764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6"/>
            <a:stretch/>
          </p:blipFill>
          <p:spPr>
            <a:xfrm>
              <a:off x="4300560" y="29764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7"/>
            <a:stretch/>
          </p:blipFill>
          <p:spPr>
            <a:xfrm>
              <a:off x="4984920" y="29764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8"/>
            <a:stretch/>
          </p:blipFill>
          <p:spPr>
            <a:xfrm>
              <a:off x="5705640" y="29764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9"/>
            <a:stretch/>
          </p:blipFill>
          <p:spPr>
            <a:xfrm>
              <a:off x="6415200" y="29764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10"/>
            <a:stretch/>
          </p:blipFill>
          <p:spPr>
            <a:xfrm>
              <a:off x="7122960" y="297648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1224000" y="2332080"/>
            <a:ext cx="0" cy="46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1200" y="2290680"/>
            <a:ext cx="0" cy="46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64200" y="2268360"/>
            <a:ext cx="0" cy="46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88200" y="2274840"/>
            <a:ext cx="0" cy="46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300800" y="3436920"/>
            <a:ext cx="0" cy="441360"/>
          </a:xfrm>
          <a:prstGeom prst="line">
            <a:avLst/>
          </a:prstGeom>
          <a:ln w="28440">
            <a:solidFill>
              <a:srgbClr val="d6004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4791240"/>
            <a:ext cx="250920" cy="1050840"/>
          </a:xfrm>
          <a:custGeom>
            <a:avLst/>
            <a:gdLst/>
            <a:ahLst/>
            <a:rect l="l" t="t" r="r" b="b"/>
            <a:pathLst>
              <a:path w="158" h="662">
                <a:moveTo>
                  <a:pt x="158" y="15"/>
                </a:moveTo>
                <a:cubicBezTo>
                  <a:pt x="146" y="20"/>
                  <a:pt x="99" y="0"/>
                  <a:pt x="84" y="43"/>
                </a:cubicBezTo>
                <a:cubicBezTo>
                  <a:pt x="69" y="86"/>
                  <a:pt x="84" y="225"/>
                  <a:pt x="70" y="271"/>
                </a:cubicBezTo>
                <a:cubicBezTo>
                  <a:pt x="56" y="317"/>
                  <a:pt x="0" y="307"/>
                  <a:pt x="0" y="322"/>
                </a:cubicBezTo>
                <a:cubicBezTo>
                  <a:pt x="0" y="337"/>
                  <a:pt x="58" y="315"/>
                  <a:pt x="70" y="364"/>
                </a:cubicBezTo>
                <a:cubicBezTo>
                  <a:pt x="82" y="413"/>
                  <a:pt x="58" y="568"/>
                  <a:pt x="70" y="615"/>
                </a:cubicBezTo>
                <a:cubicBezTo>
                  <a:pt x="82" y="662"/>
                  <a:pt x="129" y="640"/>
                  <a:pt x="144" y="64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H – Stealth Ninja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 have period of 16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sec after dividing by tw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states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 which ninja is unseen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whether ninja succeeds using B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D – Polly wants a cracker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venshtein distance for every pair of words using 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minimum weighted m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te-force fast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se of brute-force: do not recompute distanc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B – RNG in Revers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rewrite as: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a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b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mod 2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olution for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2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 solution for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, i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nique solution for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possible solution for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possible solution for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solutions for increasing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olution is unique,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we can never get a uniqu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reful with overfl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 – Attack of the Giant n-pus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complete bipartite graph for pirates &amp; tenta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 of edge is require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BS over edge we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given weigh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edges with weig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ute maximum bipartite m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d smalles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uch that |Matching| = #tenta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time from captain to head of n-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J – Shuriken Gam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using Dynamic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[stacksize][maxnum][prevmove] is too s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for F[stacksize][maxnum] s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, if there are multiple winning m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 if there is no winning 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only winning 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er wins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[stacksize][maxnum] = -1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[stacksize][maxnum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≠ prevmo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0:16Z</dcterms:created>
  <dc:creator>BCF</dc:creator>
  <dc:description>Design by Volle Kracht
Template by Orange Pepper BV
Copyright 2008</dc:description>
  <dc:language>en-US</dc:language>
  <cp:lastModifiedBy>Kevin</cp:lastModifiedBy>
  <dcterms:modified xsi:type="dcterms:W3CDTF">2011-09-07T14:37:06Z</dcterms:modified>
  <cp:revision>578</cp:revision>
  <dc:subject/>
  <dc:title>Area-Universal  Rectangular Layouts</dc:title>
</cp:coreProperties>
</file>