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F51-FC8D-432E-88B0-9729780D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5FD-D6B6-469B-B548-09836DED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1D3-ADD6-4786-8A3F-7E16CC7C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126-3939-46CB-B4B9-F2BBDCDE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11A4-66FC-4555-8096-FFE72C3B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59FD-D672-429C-B285-F669AFAB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CB3C-17A7-46E8-A963-86BB1283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45C9-F1BB-4218-B7BF-2279B0E6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9C4E-5B0D-4866-8C20-B22DD4CF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3DAF-E742-4B34-A4DC-A26D3AE3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1324-FEE9-49B2-BCCF-23F0AE8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E3F-17E3-4E65-A7D4-B453A5AB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117A-E103-4D63-8F91-9DF7E93E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3A09-3788-4105-8BED-02677EC1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B4F5-658D-46CF-8E10-2D078B9E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3C74-B574-4CDC-A477-FE4DF8F7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3419-675F-42F2-8CB8-B4AA174D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FC0-8077-4319-9C64-C2A16E46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AAC-3745-4344-9405-D451C0F7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2E8-2165-4CEB-B4BA-B4BE28FB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23F-7883-4843-9E46-D5B85E8F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60F-B2F4-49F4-8FE7-D6E093B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2B7-759D-4F6E-9004-7899DC2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5BD-4501-4D7C-8438-C4095D4A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23E7-F7CF-4028-B95E-C88D1501E58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A3E1-DA0A-4E16-BA70-6BE7512206B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ample</a:t>
            </a:r>
            <a:br>
              <a:rPr sz="8000"/>
            </a:b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olutions</a:t>
            </a:r>
            <a:br>
              <a:rPr sz="80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ntral Europe Regional Contest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a circle that covers most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may not be in an existing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 will always touch 2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36576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800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6019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all pairs, find a circ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 all other points must be tes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114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39625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4876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197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ach point, us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wee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techniq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„interesting angles“ and sort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39625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89548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4290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6324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e sorting for each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. log 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"/>
              </a:rPr>
              <a:t>Carefull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y with floating point number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81080" y="1981080"/>
            <a:ext cx="51055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H: Hexa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ll combinations of 2 green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505320"/>
            <a:ext cx="175248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666880" y="4114800"/>
            <a:ext cx="13716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038120" y="3886200"/>
            <a:ext cx="121932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57800" y="28954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257800" y="38862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304812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41008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5909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44956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39625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3733920"/>
            <a:ext cx="30456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andle “special” c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3581280"/>
            <a:ext cx="320040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4120" y="33526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334120" y="43434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12408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748200">
            <a:off x="2361960" y="358092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0481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49528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41911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Solution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r all area subsets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), find the best solution using each parc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K: Key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209680" y="2209680"/>
          <a:ext cx="4800600" cy="4038840"/>
        </p:xfrm>
        <a:graphic>
          <a:graphicData uri="http://schemas.openxmlformats.org/drawingml/2006/table">
            <a:tbl>
              <a:tblPr/>
              <a:tblGrid>
                <a:gridCol w="479520"/>
                <a:gridCol w="480960"/>
                <a:gridCol w="479520"/>
                <a:gridCol w="480960"/>
                <a:gridCol w="479520"/>
                <a:gridCol w="479520"/>
                <a:gridCol w="480960"/>
                <a:gridCol w="479160"/>
                <a:gridCol w="481320"/>
                <a:gridCol w="4791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Breadth-First sea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mbination of position and keys (!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4 keys =&gt; 16 combin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B: Billboard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666880" y="2438280"/>
          <a:ext cx="3581640" cy="3125880"/>
        </p:xfrm>
        <a:graphic>
          <a:graphicData uri="http://schemas.openxmlformats.org/drawingml/2006/table">
            <a:tbl>
              <a:tblPr/>
              <a:tblGrid>
                <a:gridCol w="400320"/>
                <a:gridCol w="395280"/>
                <a:gridCol w="347400"/>
                <a:gridCol w="449280"/>
                <a:gridCol w="397080"/>
                <a:gridCol w="398520"/>
                <a:gridCol w="398160"/>
                <a:gridCol w="395280"/>
                <a:gridCol w="40032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on (1,7) +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e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8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6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343400" y="2819520"/>
          <a:ext cx="4268880" cy="3554280"/>
        </p:xfrm>
        <a:graphic>
          <a:graphicData uri="http://schemas.openxmlformats.org/drawingml/2006/table">
            <a:tbl>
              <a:tblPr/>
              <a:tblGrid>
                <a:gridCol w="427320"/>
                <a:gridCol w="426960"/>
                <a:gridCol w="425520"/>
                <a:gridCol w="428400"/>
                <a:gridCol w="426960"/>
                <a:gridCol w="425520"/>
                <a:gridCol w="428760"/>
                <a:gridCol w="425520"/>
                <a:gridCol w="426960"/>
                <a:gridCol w="426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716292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086600" y="25146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31240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L: Logic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38098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? There is no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” follow the conn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 logical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tes with no 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ting and joining path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We must remember, what has already been compu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096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812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244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244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96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96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96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96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96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96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N: Number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733920"/>
            <a:ext cx="609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101010100101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-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= -1090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the formula in the problem stat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257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-4000 + 200 – 50 + 7 = -384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remainders (modul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areful with the negative number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237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2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4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&gt; 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1637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P: Poly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2819520"/>
            <a:ext cx="0" cy="2590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5410080"/>
            <a:ext cx="3657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400800" y="380952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72000" y="3809880"/>
            <a:ext cx="1828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3809880"/>
            <a:ext cx="0" cy="609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281916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order of polygon vert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4792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63868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4038480" y="1904400"/>
            <a:ext cx="990360" cy="990720"/>
          </a:xfrm>
          <a:prstGeom prst="downArrow">
            <a:avLst>
              <a:gd name="adj1" fmla="val 39722"/>
              <a:gd name="adj2" fmla="val 46971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886200"/>
            <a:ext cx="822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st all existing subs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"/>
              </a:rPr>
              <a:t>256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possibiliti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he 16x16 bo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the vertices by their X coordi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Find their horizont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8098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5410080"/>
            <a:ext cx="35049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by Y =&gt; vertic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73392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743200" y="2819520"/>
            <a:ext cx="0" cy="2590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24480" y="38098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, each vertex knows its neighb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t with the first, and walk a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 Left / Right tur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Left &gt; Right 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counter-clockw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2895480"/>
            <a:ext cx="0" cy="25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54100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324480" y="38095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638320" y="380988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2743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2666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5029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77120" y="51055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477120" y="3429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R: Roshambo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495680" cy="359712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: Robotic Sort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388620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ive approach – reverse in an arr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ttle bit better: remember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atic time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00 00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838080" y="380988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4191120" y="4724280"/>
            <a:ext cx="733320" cy="60984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838080" y="556272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Another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uble-linked li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 finding the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„forward direction“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0968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055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34290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4290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3392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242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752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74320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7339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6483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5627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5530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096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7432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752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4320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339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6483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553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438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467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467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7913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6212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61760" y="6324480"/>
            <a:ext cx="5105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86728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867280" y="5715000"/>
            <a:ext cx="152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790960" y="54100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62120" y="4800600"/>
            <a:ext cx="502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4343400"/>
            <a:ext cx="733680" cy="60948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21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mbined solu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use bo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ked li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array of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rray time: O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v_befo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SQRT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steps: reor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.SQRT(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19720"/>
            <a:ext cx="8226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f we somehow knew the tapped tiles in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possibilities - ??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val Tre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W: Water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214800" cy="40384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enter of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ount of water with the lowest cen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81280" y="4114800"/>
            <a:ext cx="1524240" cy="1219320"/>
          </a:xfrm>
          <a:custGeom>
            <a:avLst/>
            <a:gdLst>
              <a:gd name="textAreaLeft" fmla="*/ 336960 w 1524240"/>
              <a:gd name="textAreaRight" fmla="*/ 1187280 w 1524240"/>
              <a:gd name="textAreaTop" fmla="*/ 269640 h 1219320"/>
              <a:gd name="textAreaBottom" fmla="*/ 94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53" y="21600"/>
                </a:lnTo>
                <a:lnTo>
                  <a:pt x="5447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 the glass into horizonta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me of one slice: 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r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3733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3505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3962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41911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4197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5120" y="4648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05120" y="4876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5105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3341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4191120"/>
            <a:ext cx="1447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Mass of the gl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of al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5562720"/>
            <a:ext cx="16761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the water “slow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water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e both center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weighted averag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191120" y="4343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33920" y="46483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reached the center ? =&gt;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END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Linear time needed onl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91120" y="4876920"/>
            <a:ext cx="304560" cy="304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Arial"/>
              </a:rPr>
              <a:t>Statistic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447920" y="1981080"/>
          <a:ext cx="5910120" cy="4348440"/>
        </p:xfrm>
        <a:graphic>
          <a:graphicData uri="http://schemas.openxmlformats.org/drawingml/2006/table">
            <a:tbl>
              <a:tblPr/>
              <a:tblGrid>
                <a:gridCol w="1616040"/>
                <a:gridCol w="858600"/>
                <a:gridCol w="858960"/>
                <a:gridCol w="858960"/>
                <a:gridCol w="858600"/>
                <a:gridCol w="85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lboar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xa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ey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gi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ly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shamb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also do i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hird row becomes evi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so 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k, but how to find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We will try all possibilitie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* 16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2438280"/>
            <a:ext cx="6095880" cy="36576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C: Phone Cell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902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0:40:39Z</dcterms:created>
  <dc:creator>Martin Kacer</dc:creator>
  <dc:description/>
  <dc:language>en-US</dc:language>
  <cp:lastModifiedBy>Martin Kačer</cp:lastModifiedBy>
  <dcterms:modified xsi:type="dcterms:W3CDTF">2007-11-15T09:14:24Z</dcterms:modified>
  <cp:revision>115</cp:revision>
  <dc:subject/>
  <dc:title>Slide 1</dc:title>
</cp:coreProperties>
</file>