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DFA-6AA3-4B8E-91CD-F3CDE71E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384-AF97-407D-89DF-36022FB8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974-15F2-422B-862F-81EE46CB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16C-94C0-4693-B135-C75A2BC8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E144-451A-4BDE-B4E8-CEA953E1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4DF3-A473-481A-AA57-939D65E6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B722-D1F8-4F17-8C2F-C450446D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9770-8AEC-44A2-BC31-6A8834DE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AEEB-707C-4507-B553-78E5B091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D639-015F-4EE0-8404-2E51B080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613B-8C6A-42D1-A0BA-091BF46A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7F29-6241-4448-9D2A-7F9102D8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0709-5D99-435A-A4D8-B6583D65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FA10-C4DD-4640-93B8-0FD69E02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5A5D-9362-4541-817F-12E0B3C8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1314-81DE-45FC-B4F4-24DDFAF4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DD4F-351B-4616-AF78-E2757F77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810-2E54-4137-9E24-6A6A567F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6A6-94E0-412E-B76D-D6E22C32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523-5C79-40BB-86D2-8C037341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532-C035-4E56-8AD8-EED4072D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0E89-544F-4A37-8CB1-42849407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3F2-7F6C-4FA0-A395-B878255D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9A5-7695-4166-AF15-32D8E921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D48B-E000-42B2-8AA5-CA356E5A12E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68CF-B1CD-4A25-B821-E1029605F98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226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Sample</a:t>
            </a:r>
            <a:br>
              <a:rPr sz="8000"/>
            </a:b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Solutions</a:t>
            </a:r>
            <a:br>
              <a:rPr sz="8000"/>
            </a:b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ntral Europe Regional Contest 2007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a circle that covers most poi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 may not be in an existing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ution will always touch 2 poi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3657600"/>
            <a:ext cx="2590920" cy="259092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800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6019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 all pairs, find a circ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n all other points must be tes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3505320"/>
            <a:ext cx="2590920" cy="259056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4114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40384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47242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39625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4876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4197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each point, use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wee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 techniq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„interesting angles“ and sort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3962520"/>
            <a:ext cx="2590920" cy="259056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14600" y="2895480"/>
            <a:ext cx="2590920" cy="259092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3505320"/>
            <a:ext cx="2590920" cy="259056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3429000"/>
            <a:ext cx="2590920" cy="259092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52880" y="63244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7242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ne sorting for each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cs-CZ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. log 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"/>
              </a:rPr>
              <a:t>Carefull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y with floating point numbers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981080" y="1981080"/>
            <a:ext cx="51055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H: Hexagon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114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xagon –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ll combinations of 2 green poi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505320"/>
            <a:ext cx="175248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666880" y="4114800"/>
            <a:ext cx="137160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038120" y="3886200"/>
            <a:ext cx="1219320" cy="228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257800" y="2895480"/>
            <a:ext cx="182880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257800" y="3886200"/>
            <a:ext cx="175248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3048120"/>
            <a:ext cx="182880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5410080"/>
            <a:ext cx="18288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2590920"/>
            <a:ext cx="1828800" cy="914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72200" y="4495680"/>
            <a:ext cx="1828800" cy="9144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3962520"/>
            <a:ext cx="30492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3733920"/>
            <a:ext cx="30456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xagon –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Handle “special” ca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3581280"/>
            <a:ext cx="320040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4120" y="3352680"/>
            <a:ext cx="182880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334120" y="4343400"/>
            <a:ext cx="175248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3124080"/>
            <a:ext cx="182880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748200">
            <a:off x="2361960" y="3580920"/>
            <a:ext cx="18288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048120"/>
            <a:ext cx="1828800" cy="914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4952880"/>
            <a:ext cx="1828800" cy="9144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81480" y="4191120"/>
            <a:ext cx="30492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xagon –Solution 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ynamic Programm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or all area subsets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), find the best solution using each parc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K: Key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209680" y="2209680"/>
          <a:ext cx="4800600" cy="4038840"/>
        </p:xfrm>
        <a:graphic>
          <a:graphicData uri="http://schemas.openxmlformats.org/drawingml/2006/table">
            <a:tbl>
              <a:tblPr/>
              <a:tblGrid>
                <a:gridCol w="479520"/>
                <a:gridCol w="480960"/>
                <a:gridCol w="479520"/>
                <a:gridCol w="480960"/>
                <a:gridCol w="479520"/>
                <a:gridCol w="479520"/>
                <a:gridCol w="480960"/>
                <a:gridCol w="479160"/>
                <a:gridCol w="481320"/>
                <a:gridCol w="4791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!!!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s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Breadth-First sear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ombination of position and keys (!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4 keys =&gt; 16 combin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B: Billboard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666880" y="2438280"/>
          <a:ext cx="3581640" cy="3125880"/>
        </p:xfrm>
        <a:graphic>
          <a:graphicData uri="http://schemas.openxmlformats.org/drawingml/2006/table">
            <a:tbl>
              <a:tblPr/>
              <a:tblGrid>
                <a:gridCol w="400320"/>
                <a:gridCol w="395280"/>
                <a:gridCol w="347400"/>
                <a:gridCol w="449280"/>
                <a:gridCol w="397080"/>
                <a:gridCol w="398520"/>
                <a:gridCol w="398160"/>
                <a:gridCol w="395280"/>
                <a:gridCol w="40032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s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on (1,7) +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Ke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,8) +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ello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,6) +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343400" y="2819520"/>
          <a:ext cx="4268880" cy="3554280"/>
        </p:xfrm>
        <a:graphic>
          <a:graphicData uri="http://schemas.openxmlformats.org/drawingml/2006/table">
            <a:tbl>
              <a:tblPr/>
              <a:tblGrid>
                <a:gridCol w="427320"/>
                <a:gridCol w="426960"/>
                <a:gridCol w="425520"/>
                <a:gridCol w="428400"/>
                <a:gridCol w="426960"/>
                <a:gridCol w="425520"/>
                <a:gridCol w="428760"/>
                <a:gridCol w="425520"/>
                <a:gridCol w="426960"/>
                <a:gridCol w="426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!!!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7162920" y="30481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553080" y="30481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086600" y="25146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31240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L: Logic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3809880"/>
          </a:xfrm>
          <a:prstGeom prst="rect">
            <a:avLst/>
          </a:prstGeom>
          <a:ln w="572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gic – 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? There is no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” follow the conne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e logical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gic – Potential Pitf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tes with no inp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OR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gic – Potential Pitf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litting and joining path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&gt; We must remember, what has already been compu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096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096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096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096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096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812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812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812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812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812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5812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812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812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528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528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28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528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3244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244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244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3244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3244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244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244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244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960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960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960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6960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960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6960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960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960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960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6960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668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0384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7816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N: Number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3733920"/>
            <a:ext cx="6095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0101010100101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-2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= -1090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umbers –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cimal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e the formula in the problem stat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257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-4000 + 200 – 50 + 7 = -384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umbers –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R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cimal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e remainders (modul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areful with the negative number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237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42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423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-4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3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4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-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&gt; </a:t>
            </a: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1637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P: Polygon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743200" y="2819520"/>
            <a:ext cx="0" cy="25905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5410080"/>
            <a:ext cx="3657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6400800" y="3809520"/>
            <a:ext cx="0" cy="1600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572000" y="3809880"/>
            <a:ext cx="18288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3809880"/>
            <a:ext cx="0" cy="6098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581280" y="4419720"/>
            <a:ext cx="990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81280" y="2819160"/>
            <a:ext cx="0" cy="1600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43200" y="2819520"/>
            <a:ext cx="8380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order of polygon vert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447920" y="1523880"/>
          <a:ext cx="1904760" cy="1828800"/>
        </p:xfrm>
        <a:graphic>
          <a:graphicData uri="http://schemas.openxmlformats.org/drawingml/2006/table">
            <a:tbl>
              <a:tblPr/>
              <a:tblGrid>
                <a:gridCol w="666720"/>
                <a:gridCol w="658800"/>
                <a:gridCol w="579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638680" y="1523880"/>
          <a:ext cx="1904760" cy="1828800"/>
        </p:xfrm>
        <a:graphic>
          <a:graphicData uri="http://schemas.openxmlformats.org/drawingml/2006/table">
            <a:tbl>
              <a:tblPr/>
              <a:tblGrid>
                <a:gridCol w="666720"/>
                <a:gridCol w="658800"/>
                <a:gridCol w="579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 rot="16200000">
            <a:off x="4038480" y="1904400"/>
            <a:ext cx="990360" cy="990720"/>
          </a:xfrm>
          <a:prstGeom prst="downArrow">
            <a:avLst>
              <a:gd name="adj1" fmla="val 39722"/>
              <a:gd name="adj2" fmla="val 46971"/>
            </a:avLst>
          </a:prstGeom>
          <a:solidFill>
            <a:srgbClr val="ff9933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3886200"/>
            <a:ext cx="8226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est all existing subse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cs-CZ" sz="3200" spc="-1" strike="noStrike" baseline="30000">
                <a:solidFill>
                  <a:srgbClr val="ffffff"/>
                </a:solidFill>
                <a:latin typeface="Arial"/>
              </a:rPr>
              <a:t>256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possibiliti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or the 16x16 boar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rt the vertices by their X coordin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5740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40080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5480" y="3886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0080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&gt; Find their horizontal neigh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05740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0532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40080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95480" y="3886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3372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40080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81280" y="441972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38098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43200" y="28195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5410080"/>
            <a:ext cx="35049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rt by Y =&gt; vertical neigh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05740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0532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0080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44956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13372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0080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581280" y="28954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3733920"/>
            <a:ext cx="0" cy="609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743200" y="2819520"/>
            <a:ext cx="0" cy="25905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24480" y="38098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1371600"/>
            <a:ext cx="8226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w, each vertex knows its neighb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rt with the first, and walk a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581280" y="28954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3581280" y="441972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73392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666880" y="28954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3520" y="1371600"/>
            <a:ext cx="8226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nt Left / Right tur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Left &gt; Right 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&gt; counter-clockwi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581280" y="28954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581280" y="441972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0" y="373392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666880" y="28954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743200" y="2895480"/>
            <a:ext cx="0" cy="259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743200" y="5410080"/>
            <a:ext cx="3581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324480" y="380952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5638320" y="380988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81080" y="2743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57600" y="26668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5029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77120" y="5105520"/>
            <a:ext cx="68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477120" y="3429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971800" y="38098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R: Roshambo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4495680" cy="3597120"/>
          </a:xfrm>
          <a:prstGeom prst="rect">
            <a:avLst/>
          </a:prstGeom>
          <a:ln w="572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S: Robotic Sort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19920" cy="388620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ive approach – reverse in an arr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ttle bit better: remember revers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dratic time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00 00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838080" y="3809880"/>
          <a:ext cx="7391520" cy="685800"/>
        </p:xfrm>
        <a:graphic>
          <a:graphicData uri="http://schemas.openxmlformats.org/drawingml/2006/table">
            <a:tbl>
              <a:tblPr/>
              <a:tblGrid>
                <a:gridCol w="924120"/>
                <a:gridCol w="923760"/>
                <a:gridCol w="924120"/>
                <a:gridCol w="923760"/>
                <a:gridCol w="924120"/>
                <a:gridCol w="923760"/>
                <a:gridCol w="924120"/>
                <a:gridCol w="92376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25" name=""/>
          <p:cNvSpPr/>
          <p:nvPr/>
        </p:nvSpPr>
        <p:spPr>
          <a:xfrm>
            <a:off x="4191120" y="4724280"/>
            <a:ext cx="733320" cy="609840"/>
          </a:xfrm>
          <a:prstGeom prst="downArrow">
            <a:avLst>
              <a:gd name="adj1" fmla="val 31731"/>
              <a:gd name="adj2" fmla="val 56769"/>
            </a:avLst>
          </a:prstGeom>
          <a:solidFill>
            <a:srgbClr val="ff9933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838080" y="5562720"/>
          <a:ext cx="7391520" cy="685800"/>
        </p:xfrm>
        <a:graphic>
          <a:graphicData uri="http://schemas.openxmlformats.org/drawingml/2006/table">
            <a:tbl>
              <a:tblPr/>
              <a:tblGrid>
                <a:gridCol w="924120"/>
                <a:gridCol w="923760"/>
                <a:gridCol w="924120"/>
                <a:gridCol w="923760"/>
                <a:gridCol w="924120"/>
                <a:gridCol w="923760"/>
                <a:gridCol w="924120"/>
                <a:gridCol w="92376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Another Approa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uble-linked li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 finding the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„forward direction“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09680" y="3429000"/>
            <a:ext cx="53352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00400" y="3429000"/>
            <a:ext cx="53352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91120" y="3429000"/>
            <a:ext cx="53316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105520" y="3429000"/>
            <a:ext cx="53316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019920" y="34290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4290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3429000"/>
            <a:ext cx="53316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7524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4320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3392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242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6386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5530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175248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74320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73392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64832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556272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55308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09680" y="52578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00400" y="52578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1911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0199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010280" y="52578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193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524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74320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3392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5530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17524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4320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73392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464832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6212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65530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4380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74674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54380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746748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791320" y="48002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62120" y="57146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761760" y="6324480"/>
            <a:ext cx="51051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867280" y="57146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5867280" y="5715000"/>
            <a:ext cx="152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5790960" y="541008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762120" y="4800600"/>
            <a:ext cx="5029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267080" y="4343400"/>
            <a:ext cx="733680" cy="609480"/>
          </a:xfrm>
          <a:prstGeom prst="downArrow">
            <a:avLst>
              <a:gd name="adj1" fmla="val 31731"/>
              <a:gd name="adj2" fmla="val 56769"/>
            </a:avLst>
          </a:prstGeom>
          <a:solidFill>
            <a:srgbClr val="ff9933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2120" y="48002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6212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mbined solu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use bo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inked li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array of revers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rray time: O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v_befor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SQRT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steps: reord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.SQRT(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ti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19720"/>
            <a:ext cx="8226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f we somehow knew the tapped tiles in the first row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 possibilities - ??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val Tre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W: Water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214800" cy="4038480"/>
          </a:xfrm>
          <a:prstGeom prst="rect">
            <a:avLst/>
          </a:prstGeom>
          <a:ln w="572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enter of M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ount of water with the lowest cen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581280" y="4114800"/>
            <a:ext cx="1524240" cy="1219320"/>
          </a:xfrm>
          <a:custGeom>
            <a:avLst/>
            <a:gdLst>
              <a:gd name="textAreaLeft" fmla="*/ 336960 w 1524240"/>
              <a:gd name="textAreaRight" fmla="*/ 1187280 w 1524240"/>
              <a:gd name="textAreaTop" fmla="*/ 269640 h 1219320"/>
              <a:gd name="textAreaBottom" fmla="*/ 94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153" y="21600"/>
                </a:lnTo>
                <a:lnTo>
                  <a:pt x="5447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lit the glass into horizontal sl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lume of one slice: </a:t>
            </a:r>
            <a:r>
              <a:rPr b="1" lang="el-GR" sz="3200" spc="-1" strike="noStrike">
                <a:solidFill>
                  <a:srgbClr val="ffff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r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05120" y="37339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905120" y="35053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905120" y="39625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05120" y="41911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4197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905120" y="46483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905120" y="48769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905120" y="51055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533412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895480" y="3505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971800" y="3733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048120" y="39625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124080" y="41911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44197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4648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352680" y="4876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352680" y="5105520"/>
            <a:ext cx="5335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5334120"/>
            <a:ext cx="18288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581280" y="4191120"/>
            <a:ext cx="1447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 of Mass of the gl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of all sl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895480" y="3505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971800" y="3733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048120" y="39625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124080" y="41911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44197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76720" y="4648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352680" y="4876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5105520"/>
            <a:ext cx="5335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429000" y="5334120"/>
            <a:ext cx="18288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05320" y="5562720"/>
            <a:ext cx="16761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 the water “slowly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 of water m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5105520"/>
            <a:ext cx="8380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09880" y="4876920"/>
            <a:ext cx="990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191120" y="4952880"/>
            <a:ext cx="30456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886200" y="5105520"/>
            <a:ext cx="8380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09880" y="4876920"/>
            <a:ext cx="990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bine both center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weighted averag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191120" y="4952880"/>
            <a:ext cx="30456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191120" y="4343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33920" y="464832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86200" y="5105520"/>
            <a:ext cx="8380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809880" y="4876920"/>
            <a:ext cx="990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reached the center ? =&gt;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END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Linear time needed only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191120" y="4876920"/>
            <a:ext cx="304560" cy="304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191120" y="4495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ff"/>
                </a:solidFill>
                <a:latin typeface="Arial"/>
              </a:rPr>
              <a:t>Statistics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1447920" y="1981080"/>
          <a:ext cx="5910120" cy="4348440"/>
        </p:xfrm>
        <a:graphic>
          <a:graphicData uri="http://schemas.openxmlformats.org/drawingml/2006/table">
            <a:tbl>
              <a:tblPr/>
              <a:tblGrid>
                <a:gridCol w="1616040"/>
                <a:gridCol w="858600"/>
                <a:gridCol w="858960"/>
                <a:gridCol w="858960"/>
                <a:gridCol w="858600"/>
                <a:gridCol w="85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C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illboar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el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xago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ey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gic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lygo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oshamb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r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419720"/>
            <a:ext cx="822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try what happens with the r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W! It is easy to find the second one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4419720"/>
            <a:ext cx="822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try what happens with the r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W! It is easy to find the second one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419720"/>
            <a:ext cx="822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’s also do it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hird row becomes evid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so 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k, but how to find the first row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We will try all possibilities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x.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* 16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00200" y="2438280"/>
            <a:ext cx="6095880" cy="365760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C: Phone Cell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9024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0:40:39Z</dcterms:created>
  <dc:creator>Martin Kacer</dc:creator>
  <dc:description/>
  <dc:language>en-US</dc:language>
  <cp:lastModifiedBy>Martin Kačer</cp:lastModifiedBy>
  <dcterms:modified xsi:type="dcterms:W3CDTF">2007-11-15T09:14:24Z</dcterms:modified>
  <cp:revision>115</cp:revision>
  <dc:subject/>
  <dc:title>Slide 1</dc:title>
</cp:coreProperties>
</file>